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972-4FA4-46B5-9E44-774E5AEC97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ción de practicas en las convocatorias oficiales supone , además de entregar las ampliaciones y demás que se pueden pedir realizar in situ modificaciones de las mis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la asignatura, apuntes de teoría, práctica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E44-A71F-4D27-A765-5AA4595D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930-F984-4D72-80B9-C31F230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B2A-5B3B-423F-A061-019DD87D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EA5-C0C6-463D-A0AA-3155D985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4A36-E452-468E-A610-DF3A8223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5D5-6456-4754-AE87-04AEABF6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224-75B6-4EC3-BC02-2C30A1A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DD3-154F-4061-A1F8-06B8A85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BDFE-94EA-46FD-AA40-DCB6BE79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A13-4ACB-4E9E-B866-0DE2EF8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9453-2408-4220-8C88-32FA763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A61-5D15-4617-9F10-0734FCF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D88D-D52B-45E6-8B7B-DB150FF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8AA4-21FC-44F5-99C9-3365502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BAC-DE4C-4FF7-98F6-C7B082B3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0113-4550-4209-AFE4-B0E5E44E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AC1-970D-41CE-B31C-95BD3005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AF7-AB60-41AA-A733-6351986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8C6-E2A6-48EF-AC5C-086A810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D2A-09FC-4D4F-80C7-FDBFEA4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B04-8426-4E60-AEBA-18EE5A99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315-A014-43F0-A51D-D4ED532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3A2-1701-4B43-837A-C1C42C5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032-3713-4A93-8700-9AD75AA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FC0-E93E-420C-8558-D0542922B79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5E6-A0B4-4D81-A5F3-E4EB99885784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tc.uniovi.es/teleco/5sdtr/index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c.uniovi.es/personal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00880" y="1125360"/>
            <a:ext cx="1138320" cy="12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4000" y="579960"/>
            <a:ext cx="6573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421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900" spc="-1" strike="noStrike">
                <a:solidFill>
                  <a:srgbClr val="420000"/>
                </a:solidFill>
                <a:latin typeface="Arial"/>
              </a:rPr>
              <a:t>¿Dudas, comentarios…?</a:t>
            </a:r>
            <a:endParaRPr b="0" lang="en-US" sz="49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308720" y="765000"/>
            <a:ext cx="1590840" cy="181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62560" y="1471680"/>
            <a:ext cx="749520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770520" y="4484520"/>
            <a:ext cx="2373480" cy="2373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asignatur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artamento de Informát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Área de Arquitectura y Tecnología de Com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trimestral (Febrero – Jun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6 créditos (3 teoría + 3 práct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 horas teoría + 2 horas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teor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Profesor</a:t>
            </a:r>
            <a:r>
              <a:rPr b="0" lang="es-E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án Peteira O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ías: E-mail antes de acu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itos 2.6.16 (2ª planta. Módulo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éfono 98 518 25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peteira@uniovi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Horari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618" b="0"/>
          <a:stretch/>
        </p:blipFill>
        <p:spPr>
          <a:xfrm>
            <a:off x="1476360" y="2674800"/>
            <a:ext cx="5832360" cy="133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4797360"/>
            <a:ext cx="5616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ntrega periódica de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itualmente 4/5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echa de entrega es INAMOVIBLE (salvo circunstancia espe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presentación de todas las prácticas y/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pliaciones o nuevas 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nvocatorias oficiales con defensa de las mi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examen te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cada práctica se suele entregar una memoria y el código de dicha práctica. La nota obtenida en cada práctica será una nota num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sta de una serie de requisitos mínimos que hay que cumplir para aprobar esa práctica. En este caso, si todo es correcto, la nota será de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llevará una serie de ampliaciones opcionales que en caso de ser realizadas de forma correcta determinarán la nota final en esa práctica [7..10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alguna práctica no cumple con los requisitos mínimos, el alumno/a dispondrá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semana desde la entrega de la práctica por parte del profes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hacer los cambios necesarios y poder aprobar así la práctica. En este caso la nota máxima a la que puede aspirar el alumno es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ta final, será la media aritmética del conjunto de las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Material de teoría y práctic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onibles transparencias de clase en la web. Se dejarán con anterioridad para poder asistir con ellas 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uiones de prácticas disponible en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Necesario dejarlo en fotocopiad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f0ff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atc.uniovi.es/teleco/5sdtr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oc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geniería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s Distribuidos y de T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atc.uniovi.es/persona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25:54Z</dcterms:created>
  <dc:creator>Iván Peteira Otero</dc:creator>
  <dc:description/>
  <dc:language>en-US</dc:language>
  <cp:lastModifiedBy>Iván Peteira</cp:lastModifiedBy>
  <dcterms:modified xsi:type="dcterms:W3CDTF">2008-10-01T18:51:27Z</dcterms:modified>
  <cp:revision>27</cp:revision>
  <dc:subject/>
  <dc:title>Presentación SDTR</dc:title>
</cp:coreProperties>
</file>