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8DD-D0FF-4247-9A3F-CB8B2E50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EB9-7930-4B55-A1F9-283C7F78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8FF-2753-4181-804C-B3EEDB6F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D263-938B-48D4-9CDB-06959224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8F85-5CE5-4C7A-AD28-DE113931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2B23-8E94-43B0-8BBC-3C1E91B8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B344-C3D1-4B52-9085-D7D4E7BC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85F0-CB4A-46DE-A3E2-02FB99DB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7F98-63C3-40D5-A46C-F46AB981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0652-EB65-43A2-9CA4-13199909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10CD-1D34-45A9-ACEC-E346DA54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1B9C-A654-4AB3-A8C2-EF499E56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941E-330F-4287-A6AF-2A67CFF5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53FF-C6FA-4F2C-A107-070C127C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3B0A-2C6F-49C0-ABCF-F3275B8E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7A45-37A6-437C-B84A-E96FD0B6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87A7-3B38-458F-AA4D-73A8B414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25CC-E45C-4E05-9C20-E68A375F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F0D9-779D-4073-86A6-EF903502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FB6-9CD2-4D08-B2D0-263AB4AC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1FE-6C70-46C5-873C-9A062007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ADB6-74A5-493A-BA38-540F26B6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E6E3-1916-4FCE-BC4A-59402875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E85A-0E03-4C1D-8CD4-F3151469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E3EB-3D39-48B6-90E0-791CF5A85D1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C242-204F-4C1F-B844-07AEEB12204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Garamond"/>
              </a:rPr>
              <a:t>Sistemas distribuidos 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Garamond"/>
              </a:rPr>
              <a:t>y de tiempo real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0 – Introducción a los sistemas distribui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5320" y="3272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Arquitectura peer to peer (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71600" y="3325680"/>
            <a:ext cx="3005280" cy="2603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580000" y="3860640"/>
            <a:ext cx="2933640" cy="1791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61040" y="1628640"/>
            <a:ext cx="678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uitectura de igual a igu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últiples nodos sin un servidor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ún mecanismo mediante el que un nodo encuentre a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nodos a veces actúa de clientes y otras veces de serv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32120" y="6093000"/>
            <a:ext cx="7524720" cy="300600"/>
            <a:chOff x="1032120" y="6093000"/>
            <a:chExt cx="7524720" cy="300600"/>
          </a:xfrm>
        </p:grpSpPr>
        <p:sp>
          <p:nvSpPr>
            <p:cNvPr id="149" name=""/>
            <p:cNvSpPr/>
            <p:nvPr/>
          </p:nvSpPr>
          <p:spPr>
            <a:xfrm>
              <a:off x="1032120" y="6093000"/>
              <a:ext cx="75247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En la arquitectura P2P un mismo nodo puede ser a la vez cliente de unos nodos y servidor de otr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14560" y="6108480"/>
              <a:ext cx="741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14560" y="6362640"/>
              <a:ext cx="741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35320" y="3272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Arquitectura peer to peer (I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3262320"/>
            <a:ext cx="6120000" cy="2975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77760" y="1639800"/>
            <a:ext cx="881280" cy="1152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130480" y="1784520"/>
            <a:ext cx="1512720" cy="1000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786120" y="1712880"/>
            <a:ext cx="1513080" cy="1155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442120" y="17845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6589800" y="163980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029440" y="19112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1692360" y="3637080"/>
            <a:ext cx="5759280" cy="23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6672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lección de computadores independientes que se presenta al usuario como un sistema único y consistente </a:t>
            </a:r>
            <a:r>
              <a:rPr b="0" lang="es-ES" sz="2400" spc="-1" strike="noStrike">
                <a:solidFill>
                  <a:srgbClr val="666600"/>
                </a:solidFill>
                <a:latin typeface="Verdana"/>
              </a:rPr>
              <a:t>[Tanembaum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lección de computadores autónomos interconectados a través de una red de ordenadores y equipados con software que permita compartir los recursos del sistema, hardware, software y datos </a:t>
            </a:r>
            <a:r>
              <a:rPr b="0" lang="es-ES" sz="2400" spc="-1" strike="noStrike">
                <a:solidFill>
                  <a:srgbClr val="666600"/>
                </a:solidFill>
                <a:latin typeface="Verdana"/>
              </a:rPr>
              <a:t>[Colouris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jemplo práct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Google In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9900"/>
                </a:solidFill>
                <a:latin typeface="Garamond"/>
              </a:rPr>
              <a:t>Google Search (Motor de búsqueda)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yecto estudiantes Universidad de Stanfo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lgoritmos de ordenación con I.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utilizan servidores sino PC’s enlaz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emplo de consul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97200" y="5950080"/>
            <a:ext cx="2819520" cy="876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227640" y="5127480"/>
            <a:ext cx="1447920" cy="1038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132000" y="3209760"/>
            <a:ext cx="3810240" cy="2019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306600" y="5184720"/>
            <a:ext cx="90504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4960" y="182880"/>
            <a:ext cx="90100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Arquitectura de los sistemas distribuido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560" y="165528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liente / Servidor [Client / Server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iente realiza peticiones a servi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 la primera y la más básica de todas las arquitecturas distribui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rquitectura de N-capas [N-Tier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ace por desventajas de la arquitectura cliente / servi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iente /Servidor =&gt; Arquitectura de dos cap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luciones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sar una única capa servidora más pot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vidir la capa servidora en 2 o más cap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rquitectura Cliente – Servidor (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5520" y="2054160"/>
            <a:ext cx="2354040" cy="295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8520" y="51498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235480" y="1989000"/>
            <a:ext cx="3440160" cy="2581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662520" y="4862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842920" y="321300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4880" y="26370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i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371628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03440" y="37368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rquitectura Cliente – Servidor (I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624720" cy="1892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864072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2492280"/>
            <a:ext cx="2049480" cy="1536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rquitectura de n capas (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1619280" cy="2160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203640" y="3500280"/>
            <a:ext cx="2448000" cy="1811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042920" y="1498680"/>
            <a:ext cx="6842160" cy="4954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276720" y="2276640"/>
            <a:ext cx="1904760" cy="761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6516720" y="1700280"/>
            <a:ext cx="1173240" cy="1563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40000" y="26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263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1628640"/>
            <a:ext cx="3241440" cy="4248360"/>
          </a:xfrm>
          <a:prstGeom prst="rect">
            <a:avLst/>
          </a:prstGeom>
          <a:noFill/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4724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763640" y="4076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450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877080" y="3357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27080" y="48164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l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22720" y="19368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22520" y="19890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6160" y="4653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628640"/>
            <a:ext cx="1942920" cy="4248360"/>
          </a:xfrm>
          <a:prstGeom prst="rect">
            <a:avLst/>
          </a:prstGeom>
          <a:noFill/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3800" y="1628640"/>
            <a:ext cx="2230560" cy="4248360"/>
          </a:xfrm>
          <a:prstGeom prst="rect">
            <a:avLst/>
          </a:prstGeom>
          <a:noFill/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1800" y="6021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2880" y="60213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47240" y="609300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s bás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rquitectura de n capas (I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129440" cy="2667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28000" y="5084640"/>
            <a:ext cx="76957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da uno de estos elementos, pueden instalarse en un computador distinto si 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tilización es muy alta (una elevada utilizació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sus tiempos de respuesta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y elev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8720" y="1576440"/>
            <a:ext cx="43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típico en computación, n = 3 c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2240" y="669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rquitectura de n capas (I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1569600"/>
            <a:ext cx="8459640" cy="20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ribución de funciones del servidor entr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últip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roceso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mite migrar capas a otro computador para escalar el servi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menta la flexibilidad en desarrollo (cada capa en un lenguaj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4365720"/>
            <a:ext cx="846000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empre hay una relación establecida tip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ient/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estro/Escla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sumidor/Pro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21:55:23Z</dcterms:created>
  <dc:creator>Iván Peteira Otero</dc:creator>
  <dc:description/>
  <dc:language>en-US</dc:language>
  <cp:lastModifiedBy>Iván Peteira</cp:lastModifiedBy>
  <dcterms:modified xsi:type="dcterms:W3CDTF">2008-10-08T20:50:12Z</dcterms:modified>
  <cp:revision>14</cp:revision>
  <dc:subject/>
  <dc:title>Sistemas distribuidos  y de tiempo real</dc:title>
</cp:coreProperties>
</file>