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DA7E4D-683B-4AAA-8381-038410D01A0A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presenta un instante de tiempo en forma de fecha y hora del d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tiene el numero de ticks desd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versos tipos de constru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 Now obtenemos la fecha y hora actuales del siste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Útil para obtener el número de ticks por período (por ejemplo en una resta de Date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E QUE PERMITE LLAMAR A UNO O MÁS MÉTODOS CON EL MISMO PROTOTI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 utilizarán para especificar el método que constituye el cuerpo de un hi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cado de C++, para C# es similar pero con algunas di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C# al igual que en Java no existen los punteros, por lo que se trabaja con 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uso de cadenas de formato posibilita que se pueda escribir más de un dato en una sola lí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sustituye cada elemento de formato por los valores de cada obj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presenta una cadena de caracte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PORTANTE : Los métodos que aparentemente modifican un String, lo que devuelven en realidad es un nuevo String que contiene la mod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ystem.IO son las clases o la biblioteca de clases que da .NET para realizar operaciones de E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cesos </a:t>
            </a:r>
            <a:r>
              <a:rPr b="0" lang="es-E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E/S sobre Streams (flujos o secuencias) </a:t>
            </a:r>
            <a:r>
              <a:rPr b="0" lang="es-E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que a su vez la hacen sobre fich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extWriter – BinaryWriter o Rea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uscar ayuda de las clases en la ayuda de Visual Studio .NET (En el tema 1.1 se indica don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clase base de todos los flujos de datos o secuencias es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a instancia de la clase Stream puede manejar o implementa la funcionalidad para manejar secuencias de bytes como son Archivos, E/S, Memoria, Socket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inary(W/R) sirven para leer y escribir en binario datos en un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ext(W/R) y derivadas pueden escribir /leer caracteres en/de un Stream                           Son deriv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427640" y="4365720"/>
            <a:ext cx="41860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.2 – E/S e hil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 .N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istemas distribuido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y de tiempo real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rchivos y Directo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0320" y="1916280"/>
            <a:ext cx="1509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 Narrow"/>
              </a:rPr>
              <a:t>FileSystem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49640" y="1928880"/>
            <a:ext cx="699444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y propiedades para manipular indistintamente archivos o directo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Es la clase base de las clases 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FileInfo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DirectoryInf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42720" y="2598840"/>
            <a:ext cx="502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00720" y="2606760"/>
            <a:ext cx="727812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</a:t>
            </a:r>
            <a:r>
              <a:rPr b="1" lang="es-ES" sz="1700" spc="-1" strike="noStrike">
                <a:solidFill>
                  <a:srgbClr val="000000"/>
                </a:solidFill>
                <a:latin typeface="Arial Narrow"/>
              </a:rPr>
              <a:t>ESTÁTICOS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manipular ficheros y para crear objetos 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FileStr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Todos los métodos de File necesitan la ruta de acceso del archivo que están manipulan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44000" y="3246480"/>
            <a:ext cx="8452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 Narrow"/>
              </a:rPr>
              <a:t>File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080" y="3257640"/>
            <a:ext cx="7364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</a:t>
            </a:r>
            <a:r>
              <a:rPr b="1" lang="es-ES" sz="1700" spc="-1" strike="noStrike">
                <a:solidFill>
                  <a:srgbClr val="000000"/>
                </a:solidFill>
                <a:latin typeface="Arial Narrow"/>
              </a:rPr>
              <a:t>DE INSTANCIA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manipular ficheros y para crear objetos 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FileStr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57240" y="2563920"/>
            <a:ext cx="142920" cy="108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47400" y="4183200"/>
            <a:ext cx="1002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40720" y="4191120"/>
            <a:ext cx="6863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</a:t>
            </a:r>
            <a:r>
              <a:rPr b="1" lang="es-ES" sz="1700" spc="-1" strike="noStrike">
                <a:solidFill>
                  <a:srgbClr val="000000"/>
                </a:solidFill>
                <a:latin typeface="Arial Narrow"/>
              </a:rPr>
              <a:t>ESTÁTICOS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manipular directo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La mayoría de sus métodos necesitan la ruta de acceso del directorio que manipul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42560" y="4830840"/>
            <a:ext cx="1344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 Narrow"/>
              </a:rPr>
              <a:t>Directory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38200" y="4842000"/>
            <a:ext cx="5036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</a:t>
            </a:r>
            <a:r>
              <a:rPr b="1" lang="es-ES" sz="1700" spc="-1" strike="noStrike">
                <a:solidFill>
                  <a:srgbClr val="000000"/>
                </a:solidFill>
                <a:latin typeface="Arial Narrow"/>
              </a:rPr>
              <a:t>DE INSTANCIA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manipular directo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55800" y="4148280"/>
            <a:ext cx="142920" cy="108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73600" y="5765760"/>
            <a:ext cx="586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28360" y="5780160"/>
            <a:ext cx="598428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para manipular rutas de acceso a ficheros y directo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Todos sus miembros son </a:t>
            </a:r>
            <a:r>
              <a:rPr b="1" lang="es-ES" sz="1700" spc="-1" strike="noStrike">
                <a:solidFill>
                  <a:srgbClr val="000000"/>
                </a:solidFill>
                <a:latin typeface="Arial Narrow"/>
              </a:rPr>
              <a:t>ESTÁTIC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55800" y="5730840"/>
            <a:ext cx="144360" cy="57780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7800"/>
              <a:gd name="textAreaBottom" fmla="*/ 563040 h 57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19120" y="620280"/>
            <a:ext cx="82296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jemplo de escritura en archivo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1952640"/>
            <a:ext cx="6048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using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using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System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IO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class archiv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static void Main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String []arg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NFIL = 10, NCOL = 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f,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[,] Tabla =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new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[NFIL,NCOL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s-ES" sz="14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lang="es-ES" sz="1400" spc="-1" strike="noStrike" u="sng">
                <a:solidFill>
                  <a:srgbClr val="008000"/>
                </a:solidFill>
                <a:uFillTx/>
                <a:latin typeface="Courier New"/>
              </a:rPr>
              <a:t>Rellenar la matriz (tabla) de datos a almacen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for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f=0; f&lt;NFIL; f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for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c=0; c&lt;NCOL; c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Tabla[f,c]=100*f +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s-ES" sz="14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lang="es-ES" sz="1400" spc="-1" strike="noStrike" u="sng">
                <a:solidFill>
                  <a:srgbClr val="008000"/>
                </a:solidFill>
                <a:uFillTx/>
                <a:latin typeface="Courier New"/>
              </a:rPr>
              <a:t>Ruta del fichero en el que se almacenan los 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tring Ruta = "C:\\F1.TXT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1560" y="680760"/>
            <a:ext cx="850752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jemplo de escritura en archivos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1700280"/>
            <a:ext cx="8785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(1)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Crear directamente un Escritor de Secuencias para un fich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StreamWriter EscSec =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new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StreamWriter(Ruta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(2)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Crear un objeto FileInfo para un fich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y luego un Escritor de Secuencias para el FileInf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FileInfo Fch =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new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FileInfo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Ruta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StreamWriter EscSec =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Fch</a:t>
            </a:r>
            <a:r>
              <a:rPr b="1" lang="es-ES" sz="1300" spc="-1" strike="noStrike">
                <a:solidFill>
                  <a:srgbClr val="ff0000"/>
                </a:solidFill>
                <a:latin typeface="Courier New"/>
              </a:rPr>
              <a:t>.C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reateText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(3)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Crear un objeto FileStream para un fich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y luego un Escritor de Secuencias para el FileStrea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FileStream SecFch =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new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FileStream</a:t>
            </a: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(Ruta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FileMod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reate,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FileAccess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,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FileShar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StreamWriter EscSec =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new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StreamWriter(SecFch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for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f=0; f&lt;NFIL; f+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for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c=0; c&lt;NCOL; c+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EscSec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Writ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" {0,3}\t",Tabla[f,c]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(" {0,3}\t",Tabla[f,c]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EscS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c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WriteLine</a:t>
            </a: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Line(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EscSec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Close(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} 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1773360"/>
            <a:ext cx="813744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62760" y="4437000"/>
            <a:ext cx="32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tilizar solo uno de 1, 2, o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stión del tiempo en .NET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DateTim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71960" y="1628640"/>
            <a:ext cx="10310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Dat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imeS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96360" y="1628640"/>
            <a:ext cx="72720" cy="576360"/>
          </a:xfrm>
          <a:custGeom>
            <a:avLst/>
            <a:gdLst>
              <a:gd name="textAreaLeft" fmla="*/ 46440 w 72720"/>
              <a:gd name="textAreaRight" fmla="*/ 73080 w 72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43240" y="1700280"/>
            <a:ext cx="8489160" cy="4394880"/>
            <a:chOff x="543240" y="1700280"/>
            <a:chExt cx="8489160" cy="4394880"/>
          </a:xfrm>
        </p:grpSpPr>
        <p:sp>
          <p:nvSpPr>
            <p:cNvPr id="215" name=""/>
            <p:cNvSpPr/>
            <p:nvPr/>
          </p:nvSpPr>
          <p:spPr>
            <a:xfrm>
              <a:off x="559800" y="1700280"/>
              <a:ext cx="6838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Las fechas y horas (el tiempo) se representan y manipulan usando 2 estructu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120" y="2538360"/>
              <a:ext cx="649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La estructura contiene el número de pulsos 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ticks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) desde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        </a:t>
              </a:r>
              <a:r>
                <a:rPr b="1" lang="es-ES" sz="1800" spc="-1" strike="noStrike" u="sng">
                  <a:solidFill>
                    <a:srgbClr val="ff0000"/>
                  </a:solidFill>
                  <a:uFillTx/>
                  <a:latin typeface="Arial Narrow"/>
                </a:rPr>
                <a:t>las 12:00h de la noche del 1 de Enero del año 1 después de Cri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8480" y="2282400"/>
              <a:ext cx="7837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presenta un instante de tiempo, normalmente expresado en forma de fecha y hora del d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3240" y="2004840"/>
              <a:ext cx="10220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Date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45240" y="3120840"/>
              <a:ext cx="5104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ff0000"/>
                  </a:solidFill>
                  <a:uFillTx/>
                  <a:latin typeface="Arial Narrow"/>
                </a:rPr>
                <a:t>Cada </a:t>
              </a: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 Narrow"/>
                </a:rPr>
                <a:t>tick</a:t>
              </a:r>
              <a:r>
                <a:rPr b="1" lang="es-ES" sz="1800" spc="-1" strike="noStrike" u="sng">
                  <a:solidFill>
                    <a:srgbClr val="ff0000"/>
                  </a:solidFill>
                  <a:uFillTx/>
                  <a:latin typeface="Arial Narrow"/>
                </a:rPr>
                <a:t> representa 100 nanosegundos 10</a:t>
              </a:r>
              <a:r>
                <a:rPr b="1" lang="es-ES" sz="1800" spc="-1" strike="noStrike" u="sng" baseline="30000">
                  <a:solidFill>
                    <a:srgbClr val="ff0000"/>
                  </a:solidFill>
                  <a:uFillTx/>
                  <a:latin typeface="Arial Narrow"/>
                </a:rPr>
                <a:t>-9</a:t>
              </a:r>
              <a:r>
                <a:rPr b="1" lang="es-ES" sz="1800" spc="-1" strike="noStrike" u="sng">
                  <a:solidFill>
                    <a:srgbClr val="ff0000"/>
                  </a:solidFill>
                  <a:uFillTx/>
                  <a:latin typeface="Arial Narrow"/>
                </a:rPr>
                <a:t> segund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20880" y="3852360"/>
              <a:ext cx="261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DateTime Tini, Tfin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9320" y="3604680"/>
              <a:ext cx="116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Decla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06480" y="3842640"/>
              <a:ext cx="47833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Observar que las variables Tini y Tfin son tipos de va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0400" y="4187160"/>
              <a:ext cx="12398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Inicial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25920" y="4800240"/>
              <a:ext cx="8106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Tini = DateTime(200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DateTime Tx = DateTime(200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DateTime Ty = DateTime(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año,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mes,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dia,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hora,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min,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seg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,miliseg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50760" y="4443480"/>
              <a:ext cx="71589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e puede usar un constructor para inicializar una nueva instancia o una ya exist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02160" y="4947120"/>
              <a:ext cx="32468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La fecha y hora se inicializa con 200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ic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99840" y="4894200"/>
              <a:ext cx="135000" cy="388440"/>
            </a:xfrm>
            <a:custGeom>
              <a:avLst/>
              <a:gdLst>
                <a:gd name="textAreaLeft" fmla="*/ 0 w 135000"/>
                <a:gd name="textAreaRight" fmla="*/ 48600 w 135000"/>
                <a:gd name="textAreaTop" fmla="*/ 10080 h 388440"/>
                <a:gd name="textAreaBottom" fmla="*/ 378360 h 38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61560" y="5500800"/>
              <a:ext cx="46278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Arial Narrow"/>
                </a:rPr>
                <a:t>1-9999    1-12    1-28/31    0-23       0-59      0-59          0-99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932920" y="5638680"/>
              <a:ext cx="751680" cy="129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15080" y="5616000"/>
              <a:ext cx="7552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Arial Narrow"/>
                </a:rPr>
                <a:t>Enter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27200" y="5768280"/>
              <a:ext cx="2680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Hay diversos constructores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7960" y="4221000"/>
            <a:ext cx="1271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isu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2080" y="2276640"/>
            <a:ext cx="82882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Devuelve un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DateTime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con la fecha/hora actuales del computador en el que se ejecuta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get_Now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8160" y="2781360"/>
            <a:ext cx="1407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Recordato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3720" y="1844640"/>
            <a:ext cx="2683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rgar la fecha y hora actual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60600" y="1844640"/>
            <a:ext cx="3803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Se utiliza la propiedad pública estática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85200" y="2781360"/>
            <a:ext cx="64062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Como la propiedad es estática se puede usar sin estar asociada a la instancia de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objeto concreto, basta con anteponerle el nombre de la cl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14040" y="3421080"/>
            <a:ext cx="371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 = DateTime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Now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for (int i=0; i&lt;100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00; 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fin = DateTim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e.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N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6000" y="3608280"/>
            <a:ext cx="3731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Narrow"/>
              </a:rPr>
              <a:t>Computación cuya duración se debe me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643280" y="3789360"/>
            <a:ext cx="387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71640" y="3645000"/>
            <a:ext cx="360036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99360" y="4581360"/>
            <a:ext cx="72550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a estructura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DateTime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dispone de multitud de propiedades que permiten obtener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componentes de una fecha y hora para visualizarlos o asignarlos a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00000" y="5157720"/>
            <a:ext cx="2140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.H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.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.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.Milli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.Tic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411280" y="6165360"/>
            <a:ext cx="259236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86440" y="5950080"/>
            <a:ext cx="2962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ara obtener la máxima pr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stión del tiempo en .NET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DateTim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stión del tiempo en .NET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TimeSpa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0040" y="4716360"/>
            <a:ext cx="8622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 Narrow"/>
              </a:rPr>
              <a:t>¡¡ </a:t>
            </a:r>
            <a:r>
              <a:rPr b="1" lang="es-ES" sz="1800" spc="-1" strike="noStrike" u="sng">
                <a:solidFill>
                  <a:srgbClr val="ff0000"/>
                </a:solidFill>
                <a:uFillTx/>
                <a:latin typeface="Arial Narrow"/>
              </a:rPr>
              <a:t>Se puede restar directamente 2 estructuras </a:t>
            </a:r>
            <a:r>
              <a:rPr b="1" sz="1800" spc="-1" strike="noStrike" u="sng">
                <a:solidFill>
                  <a:srgbClr val="ff0000"/>
                </a:solidFill>
                <a:uFillTx/>
                <a:latin typeface="Arial Narrow"/>
              </a:rPr>
              <a:t>DateTime</a:t>
            </a:r>
            <a:r>
              <a:rPr b="1" lang="es-ES" sz="1800" spc="-1" strike="noStrike" u="sng">
                <a:solidFill>
                  <a:srgbClr val="ff0000"/>
                </a:solidFill>
                <a:uFillTx/>
                <a:latin typeface="Arial Narrow"/>
              </a:rPr>
              <a:t> y asignar el resultado a un </a:t>
            </a:r>
            <a:r>
              <a:rPr b="1" sz="1800" spc="-1" strike="noStrike" u="sng">
                <a:solidFill>
                  <a:srgbClr val="ff0000"/>
                </a:solidFill>
                <a:uFillTx/>
                <a:latin typeface="Arial Narrow"/>
              </a:rPr>
              <a:t>TimeSpan</a:t>
            </a:r>
            <a:r>
              <a:rPr b="1" lang="es-ES" sz="1800" spc="-1" strike="noStrike">
                <a:solidFill>
                  <a:srgbClr val="ff0000"/>
                </a:solidFill>
                <a:latin typeface="Arial Narrow"/>
              </a:rPr>
              <a:t>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87760" y="2341440"/>
            <a:ext cx="820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a estructura contiene el número de pulsos (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icks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) que representan el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a especificación de un número d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icks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y el valor de un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imeSpan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puede ser positivo o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68320" y="2093760"/>
            <a:ext cx="3873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presenta un intervalo o período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0520" y="1773360"/>
            <a:ext cx="1073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 u="sng">
                <a:solidFill>
                  <a:srgbClr val="000000"/>
                </a:solidFill>
                <a:uFillTx/>
                <a:latin typeface="Arial Narrow"/>
              </a:rPr>
              <a:t>TimeS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92080" y="3211560"/>
            <a:ext cx="82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imeSpan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dispone de muchos métodos y propiedades que permiten manipular períodos 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7320" y="3618000"/>
            <a:ext cx="700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meSpan PerTp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8000"/>
                </a:solidFill>
                <a:latin typeface="Courier New"/>
              </a:rPr>
              <a:t>// Después de capturar 2 instantes de tiempo Tini y Tf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 = Tfin –Tin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WriteLine(PerTpo.Tick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44720" y="4140360"/>
            <a:ext cx="280800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6160" y="4284720"/>
            <a:ext cx="6333120" cy="10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604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60471"/>
              </a:path>
            </a:pathLst>
          </a:custGeom>
          <a:noFill/>
          <a:ln w="1260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54280" y="529272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RECE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56960" y="5595840"/>
            <a:ext cx="80827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NO es necesario realizar conversiones del período de tiempo a otros formatos, ya 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TimeSpan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dispone de propiedades que permiten acceder al valor del período en diferentes forma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53920" y="61578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O …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stión del tiempo en .NET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TimeSpa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79560" y="1916280"/>
            <a:ext cx="440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ick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Milliseconds;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otalMilliseconds;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dou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Seconds;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otalSeconds;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dou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13160" y="3422520"/>
            <a:ext cx="694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 Narrow"/>
              </a:rPr>
              <a:t>NO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son útiles para obtener el período total de tiempo transcurrido entre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ini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90440" y="365112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otalMilli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otal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71640" y="3720960"/>
            <a:ext cx="61920" cy="428760"/>
          </a:xfrm>
          <a:custGeom>
            <a:avLst/>
            <a:gdLst>
              <a:gd name="textAreaLeft" fmla="*/ 0 w 61920"/>
              <a:gd name="textAreaRight" fmla="*/ 22320 w 61920"/>
              <a:gd name="textAreaTop" fmla="*/ 11160 h 428760"/>
              <a:gd name="textAreaBottom" fmla="*/ 41760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17840" y="3743280"/>
            <a:ext cx="38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SÍ son útiles, pero devuelven un tipo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4960" y="4245120"/>
            <a:ext cx="81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Si se desea almacenar el período de tiempo en un entero en unidades diferentes d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icks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, h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80280" y="4524480"/>
            <a:ext cx="310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icks /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icks / 100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icks / 100000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75200" y="4707000"/>
            <a:ext cx="1504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02200" y="4941720"/>
            <a:ext cx="11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27400" y="515772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635800" y="4508640"/>
            <a:ext cx="131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icrosegun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ilisegun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gun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851040" y="2406600"/>
            <a:ext cx="383040" cy="218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855720" y="3068640"/>
            <a:ext cx="37368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351680" y="2205000"/>
            <a:ext cx="39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 Narrow"/>
              </a:rPr>
              <a:t>Componente de </a:t>
            </a:r>
            <a:r>
              <a:rPr b="1" sz="1600" spc="-1" strike="noStrike">
                <a:solidFill>
                  <a:srgbClr val="009900"/>
                </a:solidFill>
                <a:latin typeface="Arial Narrow"/>
              </a:rPr>
              <a:t>miliseg</a:t>
            </a:r>
            <a:r>
              <a:rPr b="1" lang="es-ES" sz="1600" spc="-1" strike="noStrike">
                <a:solidFill>
                  <a:srgbClr val="009900"/>
                </a:solidFill>
                <a:latin typeface="Arial Narrow"/>
              </a:rPr>
              <a:t> de una instancia (0-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45520" y="2852640"/>
            <a:ext cx="41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 Narrow"/>
              </a:rPr>
              <a:t>Componente de segundos de una instancia (0-5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5240" y="52815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98960" y="531648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5 1 3 7 3 8 7 2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5594400"/>
            <a:ext cx="12708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28720" y="5594400"/>
            <a:ext cx="50184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1979640" y="5411160"/>
            <a:ext cx="1755360" cy="48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1539720" y="5411160"/>
            <a:ext cx="2635200" cy="48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99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19240" y="5656320"/>
            <a:ext cx="125640" cy="490320"/>
          </a:xfrm>
          <a:custGeom>
            <a:avLst/>
            <a:gdLst>
              <a:gd name="textAreaLeft" fmla="*/ 80280 w 125640"/>
              <a:gd name="textAreaRight" fmla="*/ 126000 w 125640"/>
              <a:gd name="textAreaTop" fmla="*/ 12600 h 490320"/>
              <a:gd name="textAreaBottom" fmla="*/ 477720 h 49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10320" y="561816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Componente de Segundos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Componente de </a:t>
            </a:r>
            <a:r>
              <a:rPr b="0" sz="1800" spc="-1" strike="noStrike">
                <a:solidFill>
                  <a:srgbClr val="008000"/>
                </a:solidFill>
                <a:latin typeface="Arial Narrow"/>
              </a:rPr>
              <a:t>MiliSeg</a:t>
            </a: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 = 1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96440" y="5616720"/>
            <a:ext cx="27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Pero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   </a:t>
            </a: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Total de </a:t>
            </a:r>
            <a:r>
              <a:rPr b="0" sz="1800" spc="-1" strike="noStrike">
                <a:solidFill>
                  <a:srgbClr val="008000"/>
                </a:solidFill>
                <a:latin typeface="Arial Narrow"/>
              </a:rPr>
              <a:t>MiliSeg</a:t>
            </a: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 = 5137,38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ción de tiempos aleatorios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86520" y="1903320"/>
            <a:ext cx="8422200" cy="4480920"/>
            <a:chOff x="686520" y="1903320"/>
            <a:chExt cx="8422200" cy="4480920"/>
          </a:xfrm>
        </p:grpSpPr>
        <p:sp>
          <p:nvSpPr>
            <p:cNvPr id="286" name=""/>
            <p:cNvSpPr/>
            <p:nvPr/>
          </p:nvSpPr>
          <p:spPr>
            <a:xfrm>
              <a:off x="941760" y="1903320"/>
              <a:ext cx="81669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En el espacio de nombre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ystem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se dispone de la clas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andom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que representa un disposi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generador de números seudo-aleatorios con una distribución unifor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7240" y="2485080"/>
              <a:ext cx="14594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Construct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6280" y="2795400"/>
              <a:ext cx="261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Random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Random(int Semilla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520" y="3446640"/>
              <a:ext cx="1427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Método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Next</a:t>
              </a: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05920" y="3752640"/>
              <a:ext cx="24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virtual int Next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88880" y="3996360"/>
              <a:ext cx="6113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Devuelve un número aleatorio entero, NA tal que:  0 &lt;= NA &lt;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MaxVa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07000" y="4306680"/>
              <a:ext cx="335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virtual int Next(int Max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86720" y="4550760"/>
              <a:ext cx="5636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Devuelve un número aleatorio entero, NA tal que:  0 &lt;= NA &lt;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08800" y="4920120"/>
              <a:ext cx="444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virtual int Next(int Min, int Max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87080" y="5164200"/>
              <a:ext cx="58330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Devuelve un número aleatorio entero, NA tal que: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Min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&lt;= NA &lt;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7240" y="5508000"/>
              <a:ext cx="2061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Método </a:t>
              </a:r>
              <a:r>
                <a:rPr b="1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NextDouble</a:t>
              </a: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07000" y="5813640"/>
              <a:ext cx="359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virtual double NextDouble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88160" y="6057360"/>
              <a:ext cx="56242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Devuelve un número aleatorio doble, DA tal que:  0.0 &lt;= DA &lt; 1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ción de tiempos aleatorio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54640" y="1933560"/>
            <a:ext cx="74106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ara generar valores aleatorios siguiendo una determinada distribución de prob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usar la función de distribución acumulada de probabilidad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F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11000" y="3182760"/>
            <a:ext cx="53852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leccionar un valor aleatorio x de probabilidad acumulada entre 0 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19960" y="2403360"/>
            <a:ext cx="2160360" cy="165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519960" y="2403360"/>
            <a:ext cx="2158920" cy="1656000"/>
          </a:xfrm>
          <a:custGeom>
            <a:avLst/>
            <a:gdLst/>
            <a:ahLst/>
            <a:rect l="l" t="t" r="r" b="b"/>
            <a:pathLst>
              <a:path w="1360" h="1043">
                <a:moveTo>
                  <a:pt x="0" y="1043"/>
                </a:moveTo>
                <a:cubicBezTo>
                  <a:pt x="38" y="1032"/>
                  <a:pt x="161" y="1013"/>
                  <a:pt x="229" y="975"/>
                </a:cubicBezTo>
                <a:cubicBezTo>
                  <a:pt x="297" y="937"/>
                  <a:pt x="344" y="892"/>
                  <a:pt x="406" y="813"/>
                </a:cubicBezTo>
                <a:cubicBezTo>
                  <a:pt x="468" y="734"/>
                  <a:pt x="542" y="591"/>
                  <a:pt x="604" y="501"/>
                </a:cubicBezTo>
                <a:cubicBezTo>
                  <a:pt x="666" y="411"/>
                  <a:pt x="710" y="333"/>
                  <a:pt x="781" y="270"/>
                </a:cubicBezTo>
                <a:cubicBezTo>
                  <a:pt x="852" y="207"/>
                  <a:pt x="956" y="160"/>
                  <a:pt x="1030" y="123"/>
                </a:cubicBezTo>
                <a:cubicBezTo>
                  <a:pt x="1104" y="86"/>
                  <a:pt x="1169" y="65"/>
                  <a:pt x="1224" y="45"/>
                </a:cubicBezTo>
                <a:cubicBezTo>
                  <a:pt x="1279" y="25"/>
                  <a:pt x="1314" y="11"/>
                  <a:pt x="136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19960" y="334008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83600" y="3340080"/>
            <a:ext cx="0" cy="71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62880" y="406080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07240" y="406080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5160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94520" y="406080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23888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8360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52796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7088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81524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95960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10252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4724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39160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3596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25720" y="37767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06000" y="24559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270120" y="31701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48000" y="3543480"/>
            <a:ext cx="30229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y obtener el valor de t correspon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02600" y="4292640"/>
            <a:ext cx="7654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ara algunas distribuciones el camino 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t puede hacerse analíticamente invirtiendo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F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00440" y="4741920"/>
            <a:ext cx="822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En el caso de la distribución exponencial,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F(t)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= 1-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Exp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( -t / T )  donde T = Media de la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28760" y="5246640"/>
            <a:ext cx="2814120" cy="326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Despejando t …  t = -T L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( 1-x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97200" y="5894280"/>
            <a:ext cx="77731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a clas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th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del ámbito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ystem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proporciona constantes y métodos estáticos para realiz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operaciones trigonométricas, logarítmicas, etc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80560" y="380052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80560" y="229536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929952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 de Generación de tiempos ale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00000" y="1760400"/>
            <a:ext cx="8064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using</a:t>
            </a:r>
            <a:r>
              <a:rPr b="0" sz="1400" spc="-1" strike="noStrike">
                <a:solidFill>
                  <a:srgbClr val="9999cc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class Aleato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static void Main</a:t>
            </a:r>
            <a:r>
              <a:rPr b="0" lang="es-ES" sz="1400" spc="-1" strike="noStrike">
                <a:solidFill>
                  <a:srgbClr val="9999cc"/>
                </a:solidFill>
                <a:latin typeface="Courier New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(String 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NumAle, Tiempo, MediaExpo = 7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i, Total = 1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Courier New"/>
              </a:rPr>
              <a:t>// 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s-ES" sz="1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EntAle</a:t>
            </a:r>
            <a:r>
              <a:rPr b="0" lang="es-ES" sz="14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Random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Aleatorio =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Random(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12345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for(i=0; i&lt;Total; i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NumAle = Aleatorio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NextDouble()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Courier New"/>
              </a:rPr>
              <a:t>       </a:t>
            </a:r>
            <a:r>
              <a:rPr b="0" sz="1400" spc="-1" strike="noStrike">
                <a:solidFill>
                  <a:srgbClr val="008000"/>
                </a:solidFill>
                <a:latin typeface="Courier New"/>
              </a:rPr>
              <a:t>// EntAle = Aleatorio</a:t>
            </a:r>
            <a:r>
              <a:rPr b="0" lang="es-ES" sz="1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Next()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Tiempo = -MediaExpo *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Math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Log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1.0-NumAl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" {0,6:0.0000}  {1,8:F}",NumAle,Tiemp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93200" y="295920"/>
            <a:ext cx="8157600" cy="66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ada – salida en .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3059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lase Console del espacio de nombre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ísicamente represe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ada = teclado, salida = ventana pant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s para escrib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rite(): Escribe los datos indicados en la salida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riteLine(): Escribe los datos indicados con ‘\n’ al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s para l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ad(): Lee un carácter de la entrada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adLine(): Lee una línea de caracteres de la entrada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 = Console.Rea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ole.WriteLine(“Hola mund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legados en hi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0280" y="1771560"/>
            <a:ext cx="77122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 delegado es una clase que permite llamar a uno o más métodos con el mismo prot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62440" y="2797200"/>
            <a:ext cx="73663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os delegados cada vez que se usan permi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- Llamar a una función, se derivan de la clase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System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Dele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- Llamar a una secuencia de funciones, derivan de la clase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System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MulticastDele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77280" y="2276640"/>
            <a:ext cx="5592600" cy="326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Un delegado equivale en .NET a un puntero a función e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55600" y="3822840"/>
            <a:ext cx="6877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Se utilizarán para especificar el método que constituye el cuerpo de un h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procesos o Hilo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07400" y="2887560"/>
            <a:ext cx="8439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ermite crear y controlar subprocesos administrados, establecer su prioridad, obtener su estado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04240" y="1773360"/>
            <a:ext cx="7924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El espacio de nombres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ystem</a:t>
            </a: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reading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proporciona clases para la programación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multih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01360" y="2103480"/>
            <a:ext cx="8245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Además dispone de clases para la sincronización de los hilos y el acceso a recursos compa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87680" y="2478240"/>
            <a:ext cx="1591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 Narrow"/>
              </a:rPr>
              <a:t>La clas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87120" y="3191040"/>
            <a:ext cx="4615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ara crear un hilo administrado se usa un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233000" y="3497400"/>
            <a:ext cx="33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hread(ThreadStart star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94080" y="3770280"/>
            <a:ext cx="0" cy="407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98440" y="4132440"/>
            <a:ext cx="737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hreadStart(System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Object instancia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, System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IntPtr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metodo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395520" y="3841920"/>
            <a:ext cx="823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ele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3000" y="4573440"/>
            <a:ext cx="58302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Nombre del objeto que contiene el método que actuará como cuerpo del h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Si el método es estático no es necesario especificar un objeto (poner 0=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ull</a:t>
            </a: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19320" y="5124600"/>
            <a:ext cx="40942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Dirección del método que actúa como cuerpo del h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36960" y="5808600"/>
            <a:ext cx="664272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hreadStart Hilo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Delegado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Hilo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Delegado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= new ThreadStart(ClaseHilo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MetodoHil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hread Hilo = new Thread(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HiloDelegado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84240" y="5499000"/>
            <a:ext cx="3452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Uso típico del delegado y el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974040" y="4106880"/>
            <a:ext cx="763560" cy="54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99613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996134"/>
              </a:path>
            </a:pathLst>
          </a:custGeom>
          <a:noFill/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315320" y="3549240"/>
            <a:ext cx="3824640" cy="163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2799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27998"/>
              </a:path>
            </a:pathLst>
          </a:custGeom>
          <a:noFill/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procesos o Hilos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62840" y="1916280"/>
            <a:ext cx="8278920" cy="4457160"/>
            <a:chOff x="762840" y="1916280"/>
            <a:chExt cx="8278920" cy="4457160"/>
          </a:xfrm>
        </p:grpSpPr>
        <p:sp>
          <p:nvSpPr>
            <p:cNvPr id="355" name=""/>
            <p:cNvSpPr/>
            <p:nvPr/>
          </p:nvSpPr>
          <p:spPr>
            <a:xfrm>
              <a:off x="3191760" y="5792760"/>
              <a:ext cx="585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rue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 = El subproceso ha termin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false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 = El subproceso NO termino antes de transcurrir el tiempo especific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1480" y="1916280"/>
              <a:ext cx="39117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Hay dos métodos básicos en la clas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Thr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3200" y="2200320"/>
              <a:ext cx="1687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El método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Start</a:t>
              </a: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82800" y="2519280"/>
              <a:ext cx="57906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Permite a un hilo (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pj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el principal) arrancar a otro hilo (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pj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uno auxilia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13360" y="2860560"/>
              <a:ext cx="17658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Hilo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.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Start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1997640" y="2743920"/>
              <a:ext cx="1666080" cy="6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7" y="8085"/>
                  </a:moveTo>
                  <a:arcTo wR="10800" hR="10800" stAng="-9926417" swAng="9227292"/>
                  <a:lnTo>
                    <a:pt x="10800" y="10800"/>
                  </a:lnTo>
                  <a:close/>
                </a:path>
                <a:path fill="none" w="21600" h="21600">
                  <a:moveTo>
                    <a:pt x="347" y="8085"/>
                  </a:moveTo>
                  <a:arcTo wR="10800" hR="10800" stAng="-9926417" swAng="9227292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62840" y="3602160"/>
              <a:ext cx="14061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Método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Join</a:t>
              </a: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95680" y="2935440"/>
              <a:ext cx="43945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El objeto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hread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 indica el hilo concreto que es arranc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13000" y="4270320"/>
              <a:ext cx="16441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Hilo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.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Join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1997640" y="4153680"/>
              <a:ext cx="1666080" cy="6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7" y="8085"/>
                  </a:moveTo>
                  <a:arcTo wR="10800" hR="10800" stAng="-9926417" swAng="9227292"/>
                  <a:lnTo>
                    <a:pt x="10800" y="10800"/>
                  </a:lnTo>
                  <a:close/>
                </a:path>
                <a:path fill="none" w="21600" h="21600">
                  <a:moveTo>
                    <a:pt x="347" y="8085"/>
                  </a:moveTo>
                  <a:arcTo wR="10800" hR="10800" stAng="-9926417" swAng="9227292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95320" y="4344840"/>
              <a:ext cx="46155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El objeto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hread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 indica el hilo concreto por el que se espe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90360" y="3919680"/>
              <a:ext cx="78555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Permite a un hilo (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pj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el principal) esperar a que otro hilo (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pj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uno auxiliar) termine su ejec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72000" y="4780080"/>
              <a:ext cx="22154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obrecargas del mét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07240" y="5099040"/>
              <a:ext cx="444780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void Join(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bool Join(int MiliSegTimeout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bool Join(TimeSpan Timeout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32000" y="5229360"/>
              <a:ext cx="2773440" cy="6476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50920" y="5300640"/>
              <a:ext cx="608040" cy="5047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2511360" y="5453640"/>
              <a:ext cx="809280" cy="6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29120" y="5799240"/>
              <a:ext cx="66600" cy="509400"/>
            </a:xfrm>
            <a:custGeom>
              <a:avLst/>
              <a:gdLst>
                <a:gd name="textAreaLeft" fmla="*/ 42480 w 66600"/>
                <a:gd name="textAreaRight" fmla="*/ 66960 w 66600"/>
                <a:gd name="textAreaTop" fmla="*/ 12960 h 509400"/>
                <a:gd name="textAreaBottom" fmla="*/ 496440 h 50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39680" y="5253120"/>
              <a:ext cx="214524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Tiempo que se espera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que termine el subproce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05440" y="5513400"/>
              <a:ext cx="4050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75240" y="5248440"/>
              <a:ext cx="66960" cy="509400"/>
            </a:xfrm>
            <a:custGeom>
              <a:avLst/>
              <a:gdLst>
                <a:gd name="textAreaLeft" fmla="*/ 42840 w 66960"/>
                <a:gd name="textAreaRight" fmla="*/ 67320 w 66960"/>
                <a:gd name="textAreaTop" fmla="*/ 12960 h 509400"/>
                <a:gd name="textAreaBottom" fmla="*/ 496440 h 50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de Hilos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4360" y="1773360"/>
            <a:ext cx="871380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using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using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System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Threading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ClaseHi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9999cc"/>
                </a:solidFill>
                <a:latin typeface="Courier New"/>
              </a:rPr>
              <a:t>static void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MetodoHilo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9999cc"/>
                </a:solidFill>
                <a:latin typeface="Courier New"/>
              </a:rPr>
              <a:t>for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sz="1400" spc="-1" strike="noStrike">
                <a:solidFill>
                  <a:srgbClr val="9999cc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i = 0; i &lt; 10; i+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("MetodoHilo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i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008000"/>
                </a:solidFill>
                <a:latin typeface="Courier New"/>
              </a:rPr>
              <a:t>// Cede el resto del cuanto de tiempo de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Thread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Sleep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static void Main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String [] arg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tring Prio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ridad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400" spc="-1" strike="noStrike" u="sng">
                <a:solidFill>
                  <a:srgbClr val="008000"/>
                </a:solidFill>
                <a:uFillTx/>
                <a:latin typeface="Courier New"/>
              </a:rPr>
              <a:t>Crea el hilo pasando un delegado de Thread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ThreadStar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DelegadoHilo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ThreadStart(ClaseHilo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MetodoHil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Thread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HiloAux =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Thread(DelegadoHil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"Hilo principal: Creado un hilo auxilia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36000" y="4221000"/>
            <a:ext cx="0" cy="1295640"/>
          </a:xfrm>
          <a:prstGeom prst="line">
            <a:avLst/>
          </a:prstGeom>
          <a:ln w="1260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04000" y="3645000"/>
            <a:ext cx="1584360" cy="50724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 Narrow"/>
              </a:rPr>
              <a:t>Forma compa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 Narrow"/>
              </a:rPr>
              <a:t>de crear un h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de Hilo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4360" y="1844640"/>
            <a:ext cx="845964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Prioridad del hilo auxiliar cread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switch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HiloAux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Priority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cas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ThreadPriority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Highest:      Prio = "Highest";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break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cas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ThreadPriority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AboveNormal:  Prio = "AboveNormal";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break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cas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ThreadPriorit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y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Normal:       Prio = "Normal";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break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cas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ThreadPriority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BelowNormal:  Prio = "BelowNormal";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break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cas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ThreadPriority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Lowest:       Prio = "Lowest";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break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Line("\nHilo principal: Prioridad del hilo auxiliar = {0}",Prio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ridad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Arrancar el hil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HiloAux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Start(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200" spc="-1" strike="noStrike" u="sng">
                <a:solidFill>
                  <a:srgbClr val="008000"/>
                </a:solidFill>
                <a:uFillTx/>
                <a:latin typeface="Courier New"/>
              </a:rPr>
              <a:t>En un monoprocesador el nuevo hilo no obtiene la cpu hasta que la cede el hilo 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for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int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i = 0; i &lt; 4; i+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{ 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Line("Hilo principal: Hace un trabajo"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Thread</a:t>
            </a:r>
            <a:r>
              <a:rPr b="1" lang="es-ES" sz="1300" spc="-1" strike="noStrike">
                <a:solidFill>
                  <a:srgbClr val="ff0000"/>
                </a:solidFill>
                <a:latin typeface="Courier New"/>
              </a:rPr>
              <a:t>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Sleep(0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Line("Hilo principal: Espera que termine MetodoHilo"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HiloAux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Join(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Line("Hilo principal: Retorna de Join()"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86000" y="486000"/>
            <a:ext cx="8172000" cy="5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obrecarga del método 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bool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__wchar_t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__wchar_t buffer __gc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__wchar_t buffer __gc[], int index, int cou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Decimal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doubl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int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__int64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Object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float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unsigned int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format, Object arg __gc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 format, Object arg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 format, Object arg0, Object arg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 format, Object arg0, Object arg1, Object arg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 format, Object arg0, Object arg1, Object arg2, Object arg3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797360"/>
            <a:ext cx="756144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3960" y="43657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so de cadenas de for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o de cadenas de form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0920" y="1916280"/>
            <a:ext cx="7910280" cy="32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única forma de escribir más de un dato en una sola llamada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 usando cadenas de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métod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cribe la cadena de formato en la consola sustituyendo cada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lemento de forma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incluye por los valores de cada objeto correspondiente, por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Cadena = "Texto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WriteLine("La Cadena de caracteres es: {0}",Caden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ndice [,alineaci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n][:CadenaDeFormato]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pecificadores de form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23480" y="2174760"/>
            <a:ext cx="716508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dentifica un elemento de la lista de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l especificador de formato con índice 0 da formato al primer valor de la lista, etc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 valor que no es referenciado por un elemento de formato se ign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98720" y="4471920"/>
            <a:ext cx="6058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C ó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D ó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E ó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F ó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G ó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N ó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P ó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X ó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5360" y="1484280"/>
            <a:ext cx="53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{ </a:t>
            </a:r>
            <a:r>
              <a:rPr b="1" lang="es-ES" sz="1600" spc="-1" strike="noStrike">
                <a:solidFill>
                  <a:srgbClr val="ffffff"/>
                </a:solidFill>
                <a:latin typeface="Courier New"/>
              </a:rPr>
              <a:t>I</a:t>
            </a: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ndice [,alineaci</a:t>
            </a:r>
            <a:r>
              <a:rPr b="1" lang="es-ES" sz="1600" spc="-1" strike="noStrike">
                <a:solidFill>
                  <a:srgbClr val="ffffff"/>
                </a:solidFill>
                <a:latin typeface="Courier New"/>
              </a:rPr>
              <a:t>o</a:t>
            </a: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n][:CadenaDeFormato]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0320" y="1886040"/>
            <a:ext cx="720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Í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1040" y="3051000"/>
            <a:ext cx="1125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Aline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20600" y="3325680"/>
            <a:ext cx="3480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ica el ancho mínimo para el campo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50040" y="318924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Si es +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Alineación a Dere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Si es –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Alineación a Izquie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5360" y="3878280"/>
            <a:ext cx="3546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 u="sng">
                <a:solidFill>
                  <a:srgbClr val="000000"/>
                </a:solidFill>
                <a:uFillTx/>
                <a:latin typeface="Arial Narrow"/>
              </a:rPr>
              <a:t>CadenaDeFormato</a:t>
            </a: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 (del especific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27800" y="4165560"/>
            <a:ext cx="5353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luye especificadores del formato estándar o personali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3120" y="4473720"/>
            <a:ext cx="19684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Moneda (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urrency</a:t>
            </a: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Dec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Exponencial ó Cientí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Punto Flo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Num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Porcent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 Narrow"/>
              </a:rPr>
              <a:t>Hexadec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de salida por cons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1773360"/>
            <a:ext cx="8785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400" spc="-1" strike="noStrike" u="sng">
                <a:solidFill>
                  <a:srgbClr val="008000"/>
                </a:solidFill>
                <a:uFillTx/>
                <a:latin typeface="Courier New"/>
              </a:rPr>
              <a:t>Escribir una sola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bool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b =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tru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floa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f = 12.34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doubl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d = -1.0;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i = 20;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i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tring Cadena = “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exto";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Caden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400" spc="-1" strike="noStrike" u="sng">
                <a:solidFill>
                  <a:srgbClr val="008000"/>
                </a:solidFill>
                <a:uFillTx/>
                <a:latin typeface="Courier New"/>
              </a:rPr>
              <a:t>Escribir una o mas variables con form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"La Cadena de caracteres es: {0}",Caden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"El 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entero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es: {0} ({0:X}hex) y el doble: {1}",i,d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"El numero flotante es: {0}  {0:N}  {0:F}  {0:E}",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7640" y="4508640"/>
            <a:ext cx="6336000" cy="155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,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a Cadena de caracteres es: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l numero entero es: 20 (14hex) y el doble: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l numero flotante es: 12,34  12,34  12,34  1,234000E+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5360" y="1484280"/>
            <a:ext cx="53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{ </a:t>
            </a:r>
            <a:r>
              <a:rPr b="1" lang="es-ES" sz="1600" spc="-1" strike="noStrike">
                <a:solidFill>
                  <a:srgbClr val="ffffff"/>
                </a:solidFill>
                <a:latin typeface="Courier New"/>
              </a:rPr>
              <a:t>I</a:t>
            </a: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ndice [,alineaci</a:t>
            </a:r>
            <a:r>
              <a:rPr b="1" lang="es-ES" sz="1600" spc="-1" strike="noStrike">
                <a:solidFill>
                  <a:srgbClr val="ffffff"/>
                </a:solidFill>
                <a:latin typeface="Courier New"/>
              </a:rPr>
              <a:t>o</a:t>
            </a: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n][:CadenaDeFormato]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clase St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916280"/>
            <a:ext cx="8459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Un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es una colección secuencial de objetos </a:t>
            </a:r>
            <a:r>
              <a:rPr b="0" sz="2100" spc="-1" strike="noStrike">
                <a:solidFill>
                  <a:srgbClr val="000000"/>
                </a:solidFill>
                <a:latin typeface="Arial Narrow"/>
              </a:rPr>
              <a:t>System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sz="2100" spc="-1" strike="noStrike">
                <a:solidFill>
                  <a:srgbClr val="000000"/>
                </a:solidFill>
                <a:latin typeface="Arial Narrow"/>
              </a:rPr>
              <a:t>Char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que representan una cadena de caracter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440" y="2550960"/>
            <a:ext cx="7593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El valor de un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es el contenido de la colección secuencial y NO pue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modificarse una vez cre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920" y="3181320"/>
            <a:ext cx="8203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Los métodos de la clase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que aparentemente modifican un </a:t>
            </a:r>
            <a:r>
              <a:rPr b="0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devuelve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en realidad un nuevo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que contiene la modific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5000" y="3960720"/>
            <a:ext cx="6947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La clase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dispone de métodos para la manipulación de caden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3440" y="4797360"/>
            <a:ext cx="1034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Ejempl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4520" y="503856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String Cad = “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rc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, julio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7520" y="544500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Cad =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Cad.Substring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0,6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6000" y="486000"/>
            <a:ext cx="8172000" cy="5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da / Salida en el entorno .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31800" y="1413000"/>
            <a:ext cx="8060040" cy="4589640"/>
            <a:chOff x="631800" y="1413000"/>
            <a:chExt cx="8060040" cy="4589640"/>
          </a:xfrm>
        </p:grpSpPr>
        <p:sp>
          <p:nvSpPr>
            <p:cNvPr id="142" name=""/>
            <p:cNvSpPr/>
            <p:nvPr/>
          </p:nvSpPr>
          <p:spPr>
            <a:xfrm>
              <a:off x="633600" y="1413000"/>
              <a:ext cx="7947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El espacio de nombre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ystem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.IO = clases que aporta .NET para realizar operaciones de E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1800" y="1707840"/>
              <a:ext cx="80600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Los procesos hacen la E/S sobre Secuencias 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treams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) que a su vez la realizan sobre ficher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6920" y="2730960"/>
              <a:ext cx="759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6920" y="4379040"/>
              <a:ext cx="759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75600" y="4576680"/>
              <a:ext cx="1140120" cy="264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875600" y="5568120"/>
              <a:ext cx="1138320" cy="26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" y="11348"/>
                  </a:moveTo>
                  <a:arcTo wR="10800" hR="10800" stAng="10625556" swAng="11078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" y="11348"/>
                  </a:moveTo>
                  <a:arcTo wR="10800" hR="10800" stAng="10625556" swAng="11078276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75600" y="4709160"/>
              <a:ext cx="0" cy="98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16080" y="4709160"/>
              <a:ext cx="0" cy="98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840" y="2863440"/>
              <a:ext cx="164376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Stream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 Narrow"/>
                </a:rPr>
                <a:t>(clase bas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BufferedStr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FileStr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MemoryStr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39720" y="3174120"/>
              <a:ext cx="2508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BinaryWriter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/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BinaryR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TextWriter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/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TextR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19480" y="3425760"/>
              <a:ext cx="95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06640" y="3274560"/>
              <a:ext cx="21009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StreamWriter ó R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StringWriter ó R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32240" y="3523320"/>
              <a:ext cx="120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94480" y="5059440"/>
              <a:ext cx="805680" cy="32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Arch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48200" y="4511160"/>
              <a:ext cx="2262600" cy="14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FileSystemInfo </a:t>
              </a:r>
              <a:r>
                <a:rPr b="0" sz="1400" spc="-1" strike="noStrike">
                  <a:solidFill>
                    <a:srgbClr val="000000"/>
                  </a:solidFill>
                  <a:latin typeface="Arial Narrow"/>
                </a:rPr>
                <a:t>(clase bas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File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Direc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Directory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Pa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74680" y="4709160"/>
              <a:ext cx="1140120" cy="989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52960" y="5059440"/>
              <a:ext cx="628920" cy="32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Arr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71280" y="477432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DIS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47560" y="4740840"/>
              <a:ext cx="141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MEMO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97240" y="2203560"/>
              <a:ext cx="1392840" cy="329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o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95520" y="2203560"/>
              <a:ext cx="1392840" cy="329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o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81560" y="2203560"/>
              <a:ext cx="1392840" cy="329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o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48080" y="213804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··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93840" y="2599920"/>
              <a:ext cx="0" cy="26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2120" y="2599920"/>
              <a:ext cx="0" cy="26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78160" y="2599920"/>
              <a:ext cx="0" cy="26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46560" y="4248360"/>
              <a:ext cx="0" cy="26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46000" y="4248360"/>
              <a:ext cx="0" cy="26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58800" y="3165480"/>
              <a:ext cx="59364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us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cla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01440" y="3259800"/>
              <a:ext cx="82836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us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ubcla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32880" y="3193200"/>
              <a:ext cx="64080" cy="460080"/>
            </a:xfrm>
            <a:custGeom>
              <a:avLst/>
              <a:gdLst>
                <a:gd name="textAreaLeft" fmla="*/ 41040 w 64080"/>
                <a:gd name="textAreaRight" fmla="*/ 64440 w 64080"/>
                <a:gd name="textAreaTop" fmla="*/ 11880 h 460080"/>
                <a:gd name="textAreaBottom" fmla="*/ 448200 h 46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81800" y="3284640"/>
              <a:ext cx="64080" cy="460440"/>
            </a:xfrm>
            <a:custGeom>
              <a:avLst/>
              <a:gdLst>
                <a:gd name="textAreaLeft" fmla="*/ 41040 w 64080"/>
                <a:gd name="textAreaRight" fmla="*/ 64440 w 64080"/>
                <a:gd name="textAreaTop" fmla="*/ 11880 h 460440"/>
                <a:gd name="textAreaBottom" fmla="*/ 44856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52880" y="3794760"/>
              <a:ext cx="19119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000000"/>
                  </a:solidFill>
                  <a:latin typeface="Arial Narrow"/>
                </a:rPr>
                <a:t>HtmlTextWriter ó Read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000000"/>
                  </a:solidFill>
                  <a:latin typeface="Arial Narrow"/>
                </a:rPr>
                <a:t>HttpWriter ó Read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cuencias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s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9560" y="1862280"/>
            <a:ext cx="4286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a clase base de todas las secuencias es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2160" y="2222640"/>
            <a:ext cx="75614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Una secuencia, que es una instancia de la clas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ream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, implementa una abstracción ú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ara manejar elementos que usan secuencias de bytes, como por ejemplo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860640"/>
            <a:ext cx="831708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La clase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tream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y sus clases derivadas y asociadas proporcionan una vista genérica de diversos tipos de E/S aislando al programador de los detalles específicos del SO y sus dispositivos periféricos subyac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39040" y="2781360"/>
            <a:ext cx="37242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Dispositivos de E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Canales de comunicación entr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Sockets TCP/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0560" y="4556160"/>
            <a:ext cx="8599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Binary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(W/R)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escribir/leer tipos primitivos ( Int32,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Double 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) en/de un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tream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directamente en binar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2320" y="5348160"/>
            <a:ext cx="8299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Text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(W/R)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y sus derivadas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tream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(W/R)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(W/R)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escribir/leer caracteres en/de un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tr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2760" y="4903920"/>
            <a:ext cx="3054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Los procesos usan las clases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763640" y="5429160"/>
            <a:ext cx="5977080" cy="1170000"/>
            <a:chOff x="1763640" y="5429160"/>
            <a:chExt cx="5977080" cy="1170000"/>
          </a:xfrm>
        </p:grpSpPr>
        <p:sp>
          <p:nvSpPr>
            <p:cNvPr id="184" name=""/>
            <p:cNvSpPr/>
            <p:nvPr/>
          </p:nvSpPr>
          <p:spPr>
            <a:xfrm>
              <a:off x="1893600" y="5968800"/>
              <a:ext cx="2911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Para los programadores de C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87000" y="5814720"/>
              <a:ext cx="24847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StreamWriter </a:t>
              </a:r>
              <a:r>
                <a:rPr b="0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fprintf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StringWriter </a:t>
              </a:r>
              <a:r>
                <a:rPr b="0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sprintf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02160" y="5590800"/>
              <a:ext cx="392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26000" y="542916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¡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63640" y="5660640"/>
              <a:ext cx="5977080" cy="865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4:44:40Z</dcterms:created>
  <dc:creator>Iván Peteira Otero</dc:creator>
  <dc:description/>
  <dc:language>en-US</dc:language>
  <cp:lastModifiedBy>Iván Peteira Otero</cp:lastModifiedBy>
  <dcterms:modified xsi:type="dcterms:W3CDTF">2006-11-03T15:58:57Z</dcterms:modified>
  <cp:revision>17</cp:revision>
  <dc:subject/>
  <dc:title>Sistemas distribuidos  y de tiempo real</dc:title>
</cp:coreProperties>
</file>