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81B-02F1-465C-8001-680A311B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589-271D-46A7-A74E-6A53BB8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114-0B8A-4B70-98D1-AA7D02FB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BDA-56EF-4F7A-B53B-8017DC44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094-49B1-46B2-8D8F-9FC2AC5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227F-6931-4AC0-876A-8976C56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E908-21BE-48AC-A3FA-4F059464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B80-6C02-41F4-9FA5-B3389AD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EF3D-DA43-4837-806E-82B7941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91DE-2756-410F-92BA-8BE03B20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6AE3-0B83-4488-9CC7-5D70052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4F3-2FF8-4719-8205-48480A1B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B82F-8651-4CF3-AEAC-2ACA9F0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B2C4-CCA4-4AFB-B971-23414CA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2FBB-7E0C-439E-9579-260EB90F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8344-98FC-49F1-A594-6AF65122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92E0-B808-4D3D-8D54-2B544D0F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115-53B3-4CB5-8F48-2432745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E1F-BA94-43C3-80A9-65795FA7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8F2-7AED-468D-9722-C6DD6C78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6D3-525C-4494-832D-0AAC3C4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4A9-C632-497C-924E-428AFEF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88F-5B24-4410-8B3E-4BA03AF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D97-6073-4964-9BC1-0AE6B14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0C42-2C2C-4F4C-BA8A-3CB4C16964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508-A3D7-420E-9D82-CF38074EDE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Sistemas distribuidos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y de tiempo real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– Introducción a los sistemas distribui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1600" y="3325680"/>
            <a:ext cx="3005280" cy="260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9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1040" y="1628640"/>
            <a:ext cx="67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de igual a igu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últiples nodos sin un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ún mecanismo mediante el que un nodo encuentre a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nodos a veces actúa de clientes y otras veces de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32120" y="6093000"/>
            <a:ext cx="7524720" cy="300600"/>
            <a:chOff x="1032120" y="6093000"/>
            <a:chExt cx="7524720" cy="300600"/>
          </a:xfrm>
        </p:grpSpPr>
        <p:sp>
          <p:nvSpPr>
            <p:cNvPr id="149" name=""/>
            <p:cNvSpPr/>
            <p:nvPr/>
          </p:nvSpPr>
          <p:spPr>
            <a:xfrm>
              <a:off x="1032120" y="6093000"/>
              <a:ext cx="7524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la arquitectura P2P un mismo nodo puede ser a la vez cliente de unos nodos y servidor de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4560" y="61084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63626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3262320"/>
            <a:ext cx="6120000" cy="297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7760" y="1639800"/>
            <a:ext cx="88128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130480" y="178452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86120" y="1712880"/>
            <a:ext cx="1513080" cy="11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42120" y="1784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89800" y="16398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029440" y="1911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692360" y="3637080"/>
            <a:ext cx="575928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independientes que se presenta al usuario como un sistema único y consistente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Tanembaum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autónomos interconectados a través de una red de ordenadores y equipados con software que permita compartir los recursos del sistema, hardware, software y datos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Colouri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 prác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oogle In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9900"/>
                </a:solidFill>
                <a:latin typeface="Garamond"/>
              </a:rPr>
              <a:t>Google Search (Motor de búsqueda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yecto estudiantes Universidad de Stanf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s de ordenación con I.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utilizan servidores sino PC’s enlaz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 de consu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97200" y="5950080"/>
            <a:ext cx="2819520" cy="8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5127480"/>
            <a:ext cx="144792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3209760"/>
            <a:ext cx="3810240" cy="20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06600" y="5184720"/>
            <a:ext cx="90504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4960" y="18288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rquitectura de los 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165528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iente / Servidor [Client / Serv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realiza peticiones a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la primera y la más básica de todas las arquitecturas distribu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quitectura de N-capas [N-Ti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ce por desventajas de la arquitectura cliente /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/Servidor =&gt; Arquitectura de do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ucione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una única capa servidora más pot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vidir la capa servidora en 2 o má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5520" y="2054160"/>
            <a:ext cx="2354040" cy="29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8520" y="5149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35480" y="1989000"/>
            <a:ext cx="3440160" cy="25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62520" y="486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42920" y="3213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4880" y="263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16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3440" y="3736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4720" cy="1892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64072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2492280"/>
            <a:ext cx="2049480" cy="153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448000" cy="18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42920" y="1498680"/>
            <a:ext cx="6842160" cy="495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1173240" cy="156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628640"/>
            <a:ext cx="324144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63640" y="40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450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770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7080" y="4816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l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2720" y="1936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520" y="198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6160" y="465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628640"/>
            <a:ext cx="194292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1628640"/>
            <a:ext cx="223056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1800" y="602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2880" y="602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7240" y="60930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12944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8000" y="5084640"/>
            <a:ext cx="769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a uno de estos elementos, pueden instalarse en un computador distinto s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tilización es muy alta (una elevada utilizació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us tiempos de respuesta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y ele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720" y="157644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típico en computación, n = 3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2240" y="669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1569600"/>
            <a:ext cx="845964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ción de funciones del servidor entr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últi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migrar capas a otro computador para escalar el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a la flexibilidad en desarrollo (cada capa en un lengu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365720"/>
            <a:ext cx="8460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hay una relación establecida ti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estro/Escl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umidor/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1:55:23Z</dcterms:created>
  <dc:creator>Iván Peteira Otero</dc:creator>
  <dc:description/>
  <dc:language>en-US</dc:language>
  <cp:lastModifiedBy>Iván Peteira</cp:lastModifiedBy>
  <dcterms:modified xsi:type="dcterms:W3CDTF">2008-10-08T20:50:12Z</dcterms:modified>
  <cp:revision>14</cp:revision>
  <dc:subject/>
  <dc:title>Sistemas distribuidos  y de tiempo real</dc:title>
</cp:coreProperties>
</file>